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FDF-0DE3-4081-843C-1BF1F5B9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294-FFB8-4FC4-BF72-785501C8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D88-81CE-4DFC-A9C5-4D93CBD4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5A9-7CEC-4914-8873-719ACCDE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6B8-3F41-4859-AC6E-E160AAFA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377-E8AA-4597-9E87-A3B9525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4C3-7256-4813-80B2-81FA85B6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852-A715-4D6B-8E13-5F3E62C2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D95-9E31-4BA4-8344-7DB11E89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69D-E465-4AA6-9BCD-6B8AD5C2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B83-855A-4279-AAC6-08623C18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250-74B8-4083-8CA3-CCF22AC0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C3E1-1C33-486B-8E69-44E35B34E4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Feature Article</a:t>
            </a:r>
            <a:br>
              <a:rPr sz="4400"/>
            </a:br>
            <a:r>
              <a:rPr b="0" lang="en-US" sz="4400" spc="-1" strike="noStrike">
                <a:solidFill>
                  <a:srgbClr val="ff8a06"/>
                </a:solidFill>
                <a:latin typeface="Palatino"/>
              </a:rPr>
              <a:t>Interests and Subje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720" y="59151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14479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Feature article writers write about subjects they know about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Look through your journal for topics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96252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a06"/>
                </a:solidFill>
                <a:latin typeface="Palatino"/>
              </a:rPr>
              <a:t>Change one from a notebook entry to a feature articl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9448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Possible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Angle or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Research/Interview</a:t>
            </a:r>
            <a:br>
              <a:rPr sz="2400"/>
            </a:b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of Entry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FA Topic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Perspective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814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Things that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fear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I would take the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What kids are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 scare me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perspective of a kid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afraid of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drugs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who has a lot of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fears.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Interview a child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peer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psychologist to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pressure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find out about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childhood f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9448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Possible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Angle or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Research/Interview</a:t>
            </a:r>
            <a:br>
              <a:rPr sz="2400"/>
            </a:b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of Entry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FA Topic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Perspective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81400"/>
            <a:ext cx="960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Hillary Duff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role models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How kids find role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Number of fan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and how I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models in rock and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clubs for  kids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 am huge fan.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singing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sports stars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Interview other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kids to see who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their role models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9448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Possible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Angle or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Research/Interview</a:t>
            </a:r>
            <a:br>
              <a:rPr sz="2400"/>
            </a:b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of Entry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FA Topic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Perspective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6ff04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0"/>
            <a:ext cx="9601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Falling off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danger of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How often kids get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Number/type of 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my horse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kids &amp;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sports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hurt playing sports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childhood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sports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injuries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pressure of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Serious injuries that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playing a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result from kids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Interview other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 sport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playing sports.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kids to see who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has been hurt 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8a0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playing sports.    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Interview doctors   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about childhood       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ced0d"/>
                </a:solidFill>
                <a:latin typeface="Arial"/>
              </a:rPr>
              <a:t>sports inju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Arial"/>
              </a:rPr>
              <a:t>Read through your writer’s notebook looking for possible feature article topics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828800"/>
            <a:ext cx="861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a06"/>
                </a:solidFill>
                <a:latin typeface="Arial"/>
              </a:rPr>
              <a:t>At the end of writing workshop I will ask you to do a quick-write on the topic you choos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9:16:40Z</dcterms:created>
  <dc:creator>AAPS</dc:creator>
  <dc:description/>
  <dc:language>en-US</dc:language>
  <cp:lastModifiedBy>AAPS</cp:lastModifiedBy>
  <cp:lastPrinted>2005-10-17T16:52:04Z</cp:lastPrinted>
  <dcterms:modified xsi:type="dcterms:W3CDTF">2005-10-20T02:15:59Z</dcterms:modified>
  <cp:revision>12</cp:revision>
  <dc:subject/>
  <dc:title>Feature Article Interests and Subject</dc:title>
</cp:coreProperties>
</file>